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DE3-2A1A-46BD-95AB-E148EA05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2AE-9493-4F81-81E0-DB1947D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7C1-AD55-4086-988A-A85F89D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C4F-08C4-4C36-93FC-0E4B0C7D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2292-FEDC-4F6C-B907-4EBCD71B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B30B-0131-41D7-8235-BEB1216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48A9-C690-44F9-9654-2485EA6B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DB76-8F03-4D23-A4CB-5DACE479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3260-B7B6-4D48-AFDA-F2F70581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37E-4D0A-412D-A6AD-780B9DDB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13A4-D793-4DB9-AE1D-6918BC0A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F90-EE02-47B2-AAE3-88E32D04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BC3C-1BEC-48C3-BF2F-7C3A8C58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DB63-0284-400D-AE20-5E5B47F4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D2AE-DB35-4E9D-8C05-113835F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2B92-1E30-4637-BDA2-BC60AD70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071F-093D-4081-9176-1E52FA39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2BE-6BFD-4284-B610-BD453B9A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1E5-4E27-4587-8240-FA3E63D7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359-0F39-438D-9B44-9A25A61C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1C7-7914-46C2-A4CB-3CBC1C97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665-4120-4D03-A838-9269EAC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0C5-B26A-427F-A9F4-218D662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6B3-CDF1-413F-97B4-3EB2AE9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5693-94DB-4027-B124-179C1F8A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13D-0266-4ACE-A040-7026826F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ания науки не нуждаются в пересмотре до тех пор, п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на организации изучаемых объектов учтена в картине мир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ы освоения этих объектов соответствуют идеалам и нормам исслед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стройка оснований исследования есть смена стратегии научного поис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верждение новых оснований в науке зависит и о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60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х способности предсказывать новые факты, создавать конкретные теоретические мод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60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чин социокультурного характера (новые установки и знания должны быть вписаны в культуру эпохи и согласованы с ее ценностями и мировоззрение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стройка оснований науки в период научной революции есть выбор вектора роста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дача перестройки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ширить диапазон исследуемых объект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вязать динамику знания с ценностями и мировоззренческими установками соответствующей исторической эпох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ути роста знания в период научной революции имеются (два аспекта нелинейности роста знаний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конкуренция исследовательских программ в рамках отдельно взятой отрасли науки. Победа одной из программ, создавая новые возможности,  закрывает иные пути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заимодействие научных дисциплин, обусловленное особенностями как исследуемых объектов, так и социокультурной среды, внутри которой развивается наука (революции в науке, преобразования картин мира влияют на другие отрасли знани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яется видение реальности, идеалы и нормы исслед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эти процессы и воздействуют на культуру, и испытывают ее влия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обальные революции – это периоды в развитии науки можно выделить, когда трансформировались все компоненты ее основа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т процесс сопровождается радикальным изменением нормативных структур исследования и также философских оснований науки. В таких ситуациях происходит смена типа научной рациона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истории естествознания можно обнаружить четыре таких револю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92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ервая революция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еволюция XVIIв. (становлени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сического естествознани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лассическом естествознании соединились установки классической науки, конкретизированные  с учетом особой роли  механики для данной эпохи (механицизм как доминирующее философское основа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пистемологическая характеристика первой ГН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ие о познании как наблюдении и экспериментировании с объектами (природа раскрывает свои тайны познающему разуму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ум  дистанцирован от вещей (наблюдает  со стороны наблюдающий), на него влияют только свойства и характеристики изучаемых объек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нимание изучаемых объект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ни рассматривались в качестве малых систем (механических устройств), которые характеризуются относительно небольшим количеством элементов, их силовыми взаимодействиями и жестко детерминированными связ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амках такого подхо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йства целого полностью определяются состоянием и свойствами его ч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щь представлять как относительно устойчивое те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цесс есть перемещение тел в пространстве с течением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тора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глобальная научная революция (кон. XVIII – 1/2 XIX в.) – переход к новому состоянию естествознания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исциплинарно организованной наук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сходит отказ от универсального статуса механической картины ми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биологии, химии и др. науках формируются специфические картины реальности (они несводимы к механицизму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0563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сходит дифференциация дисциплинарных идеалов и норм исследования. (идея эволюционного объяснения в биологии и геологии, отказ от эволюционизма в физи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ая и вторая глобальные революции в естествознании ответственны за оформление классической науки и ее стиля мышл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7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возможно появление принципиально новых типов объектов, и тогда треб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стройка оснований на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нение метода познавательной деятельности (в том числе - идеалы и нормы исследования) и  происходит перестройка оснований науки (возможны 2 сценария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ретья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лобальная научная революция преобразовывает классическую науку и создает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классическ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стествозна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(кон. XIX – сер. XXвв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деалы неклассической нау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исходит отказ от идеала единственно истинной теории (допускается истинность нескольких отличающихся друг от друга конкретных теоретических описаний одной и той же реаль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знается связь  между постулатами науки и характеристиками метода, посредством которого осваивается объект. (принимаются такие типы объяснения и описания, которые в явном виде содержат ссылки на средства и операции познавательной деятельности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дея исторической изменчивости научного знания. Познающий субъект не оторван  от изучаемого мира, он находится внутри него, детерминирован и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вет во многом определяется манерой ставить вопросы. Понимание этого привело к  новому пониманию категорий истины, объективности, фа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етверта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лобальная научная революция (3/3 ХХ в.) – рождени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стнеклассической нау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постнеклассической нау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нсивное применение научных знаний в социальной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самого характера научной деятельности (компьютеризация,  дорогое оборудование и т.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рокое использование идей эволюции и истор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6912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бое значение приобретают междисциплинарные и проблемно-ориентированные исслед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процессе определения научно-исследовательских приоритетов все большую роль начинают играть не научные, а экономические и социально-политические ц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ка все больше интересуется открытыми саморазвивающимися систем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ществует три исторических типа научной рациональности – три крупных этапа исторического развития науки, каждый из которых открывается глобальной научной революц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ческая рациональность (в додисциплинарном и дисциплинарно организованном состоянии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классическая рациональность (соответствующая неклассической науке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неклассическая рационально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ассическая рациональнос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нимание на объек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ремление при теоретическом объяснении и описании удалить все, что относится к субъекту и средствам его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рассматривается как необходимое условие получения объективно-истинного знания о ми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6345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классический тип научной рациона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читывает связи между знаниями об объекте и характером средств и операций деятель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язи между внутринаучными и социальными ценностями и целями по-прежнему не являются предметом научной рефлексии, хотя косвенно они определяют характер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волюция как трансформация специальной картины мира без существенных изменений идеалов и норм исследования (переход от механической к электродинамической картине мира в 4/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волюция, при которой вместе с картиной мира радикально меняются идеалы и нормы науки (создание квантово-релятивистской физ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5247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стнеклассический тип рациона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читывает связанность получаемых знаний об объекте и с особенностью средств и операций деятельности, и с ценностно-целевыми структурами. Особый акцент делается на связи внутринаучных целей с вненаучны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04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8281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ществует два пути перестройки оснований исследовани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счет внутридисциплинарного развития знани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счет междисциплинарных связей, «прививки» парадигмальных установок одной науки на другу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стройка оснований в результате ее внутреннего развития подразумев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итическое осмысление картины мира и идеалов позн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копление данных, которые не находят объяснения в старой картине мира факты-аномалии и парадокс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наружение нового типа объектов и их теоретическое опис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ункции философии при пересмотре оснований наук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итическая (осознание относительности и условности старой картины мира и старых идеалов научного позн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структивная (помощь в определении новых оснований исслед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лософско-методологические средства играют особую роль, когда основным источником изменения становятся факторы междисциплинарного взаимодействия – парадигмальные привив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ививаются» другим наукам компоненты оснований лидирующей нау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56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такие «прививки» возможн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Ядро лидирующей науки включает в себя фундамент общей научной картины мира данной эпох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этой причине принятые в ней идеалы и нормы обретают общенаучный статус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дача философии – подготовить почву для трансляции отдельных идей, принципов и методов лидера в другие нау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98900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имствованные другими науками парадигмальные принципы могут оказать обратное воздействие на те науки, из которых они были первоначально заимствова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9:00:50Z</dcterms:created>
  <dc:creator>Владас</dc:creator>
  <dc:description/>
  <dc:language>en-US</dc:language>
  <cp:lastModifiedBy>Владас</cp:lastModifiedBy>
  <dcterms:modified xsi:type="dcterms:W3CDTF">2009-04-09T12:39:11Z</dcterms:modified>
  <cp:revision>134</cp:revision>
  <dc:subject/>
  <dc:title>Слайд 1</dc:title>
</cp:coreProperties>
</file>